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A8B-6B93-479E-A2F2-BAD3586A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AA59-BF0C-41EB-A007-9A949AC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C70-8AE9-4FB4-9E8B-38C629AA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D4AC-FDB6-4C14-9589-49BFC189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39A0-1697-4C37-ADE0-95C1B98B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524-442C-40D6-AAB2-26C6FA5F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294-CC2F-4CDD-9EAD-FFEBD750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3A9-2C97-409B-A87B-328CBE07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201-D6EC-4B8A-A926-8FAE8278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6B8-7AA7-4C92-8060-68641945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3C9-92E0-4F42-93A8-64B25117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131D-47CB-4DF1-BC54-3435649A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D8B1-3242-4D24-B678-F5B1F7D494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71680"/>
            <a:ext cx="7315200" cy="564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38480" y="3124080"/>
            <a:ext cx="685800" cy="30492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429000"/>
            <a:ext cx="99036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8360" y="6172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ff"/>
                </a:solidFill>
                <a:latin typeface="Arial"/>
              </a:rPr>
              <a:t>本楼在小区内的位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2362320"/>
            <a:ext cx="68580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69960" y="2008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休闲广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8236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82360" y="3657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操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581280"/>
            <a:ext cx="533520" cy="228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矮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467120" y="1447920"/>
            <a:ext cx="685800" cy="3808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48160" y="1219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小区大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0120" y="3808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380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19280" y="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62120" y="304920"/>
            <a:ext cx="678168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62120" y="457200"/>
            <a:ext cx="6781680" cy="76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79440" y="25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85800" y="41144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720" y="3276720"/>
            <a:ext cx="60660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地势为南高北低缓下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6553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2080" y="617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西高东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60320" y="21337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幼儿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4240" y="2286000"/>
            <a:ext cx="36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某机械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3808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6360" y="1974240"/>
            <a:ext cx="362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76360" y="526320"/>
            <a:ext cx="362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3080" y="236232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81200" y="65530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小区前身为一座小山，小区建在山坡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140440" cy="54673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014720" y="2286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8400" y="609588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71520" y="29718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2895480"/>
            <a:ext cx="41292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4720" y="2487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大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4200" y="1573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厨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87520" y="33256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厕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4200" y="3173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客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78240" y="4164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11200" y="4240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3840" y="5230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114800"/>
            <a:ext cx="7621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1008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47600" y="3505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木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9718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7432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57280" y="2514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马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449568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441972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64832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2819520"/>
            <a:ext cx="3808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410080" y="23623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15720" y="2182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鞋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86400" y="12189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68480" y="1039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1066680"/>
            <a:ext cx="759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066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838080"/>
            <a:ext cx="48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炉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71800" y="51811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58600" y="5535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080" y="6222960"/>
            <a:ext cx="7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楼层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72428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29720" y="48769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空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638680" y="3886200"/>
            <a:ext cx="15264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038480"/>
            <a:ext cx="3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空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714640" y="403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2971800"/>
            <a:ext cx="3812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3276720"/>
            <a:ext cx="3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电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3886200"/>
            <a:ext cx="609840" cy="152280"/>
          </a:xfrm>
          <a:prstGeom prst="rect">
            <a:avLst/>
          </a:prstGeom>
          <a:solidFill>
            <a:srgbClr val="f5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衣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4191120"/>
            <a:ext cx="76320" cy="380880"/>
          </a:xfrm>
          <a:prstGeom prst="rect">
            <a:avLst/>
          </a:prstGeom>
          <a:solidFill>
            <a:srgbClr val="f5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80160" y="4191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写字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140440" cy="546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38400" y="2286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14720" y="624852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71520" y="29718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2895480"/>
            <a:ext cx="41292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4720" y="2487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大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4200" y="1573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厨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87520" y="33256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厕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54200" y="3173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客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8320" y="413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01120" y="42670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53760" y="52578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4114800"/>
            <a:ext cx="7621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62720" y="36576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7600" y="3505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木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29718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7432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57280" y="2514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马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49568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441972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64832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2819520"/>
            <a:ext cx="3808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410080" y="23623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15720" y="2182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鞋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12189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68480" y="1039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1066680"/>
            <a:ext cx="759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1066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914400"/>
            <a:ext cx="48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炉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048120" y="52578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58600" y="5535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762120"/>
            <a:ext cx="0" cy="5410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200400" y="990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09480"/>
            <a:ext cx="0" cy="5410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609480"/>
            <a:ext cx="0" cy="5410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609480"/>
            <a:ext cx="0" cy="5410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276720" y="2438280"/>
            <a:ext cx="32004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429000" y="4038480"/>
            <a:ext cx="32004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429000" y="5638680"/>
            <a:ext cx="32004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zhang</cp:lastModifiedBy>
  <dcterms:modified xsi:type="dcterms:W3CDTF">2008-05-06T03:36:2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